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4E1-2A0C-4123-A8A7-A1783536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4E2-47A6-4297-9AD0-FE396134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46A-A9EA-4D19-BFA5-64F1A188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CAE-4D96-4255-9D16-7CC96774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FF9-442C-4BA2-95E0-1792EC4D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888-D6A3-401D-802A-583D2B50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DA6-2BAB-4ECE-AD5C-31397104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921-CCE6-4C41-AD11-41311C66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2E8-7E10-4351-9BF0-8ABB5109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8A6-DBD1-4D03-9A12-CA72D59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415-29CE-4F2F-890D-89C5B04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9D3-136F-4E40-95EC-DE1532EE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7D50-22FE-46FE-AAAB-88CE1D362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e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be0e3"/>
                </a:solidFill>
                <a:latin typeface="Arial"/>
              </a:rPr>
              <a:t>Zimbab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Micayla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10/31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re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12408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91320" y="4343400"/>
            <a:ext cx="3124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3333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Future of Zimbab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 think the future of Zimbabwe will be very good because they have a good political environment for right now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Zimbab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Zimbabwe is a landlocked country in    South – Central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ordered by Botswana on the west, Zambia on the north, Mozambique on the east, and South Africa o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lightly smaller than Califor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apital is Ha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b2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p showing Zimbab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mbabwe ↓. The capital is Har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35244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14640" y="3065400"/>
            <a:ext cx="714240" cy="620640"/>
          </a:xfrm>
          <a:custGeom>
            <a:avLst/>
            <a:gdLst/>
            <a:ahLst/>
            <a:rect l="l" t="t" r="r" b="b"/>
            <a:pathLst>
              <a:path w="1985" h="1727">
                <a:moveTo>
                  <a:pt x="9644" y="8513"/>
                </a:moveTo>
                <a:cubicBezTo>
                  <a:pt x="9534" y="8513"/>
                  <a:pt x="9404" y="8498"/>
                  <a:pt x="9307" y="8533"/>
                </a:cubicBezTo>
                <a:cubicBezTo>
                  <a:pt x="9279" y="8543"/>
                  <a:pt x="9282" y="8549"/>
                  <a:pt x="9267" y="8572"/>
                </a:cubicBezTo>
                <a:cubicBezTo>
                  <a:pt x="9254" y="8592"/>
                  <a:pt x="9250" y="8589"/>
                  <a:pt x="9247" y="8632"/>
                </a:cubicBezTo>
                <a:cubicBezTo>
                  <a:pt x="9244" y="8670"/>
                  <a:pt x="9265" y="8702"/>
                  <a:pt x="9267" y="8711"/>
                </a:cubicBezTo>
                <a:cubicBezTo>
                  <a:pt x="9267" y="8718"/>
                  <a:pt x="9267" y="8724"/>
                  <a:pt x="9267" y="8731"/>
                </a:cubicBezTo>
                <a:cubicBezTo>
                  <a:pt x="9238" y="8741"/>
                  <a:pt x="9229" y="8748"/>
                  <a:pt x="9208" y="8751"/>
                </a:cubicBezTo>
                <a:cubicBezTo>
                  <a:pt x="9170" y="8756"/>
                  <a:pt x="9165" y="8763"/>
                  <a:pt x="9148" y="8771"/>
                </a:cubicBezTo>
                <a:cubicBezTo>
                  <a:pt x="9107" y="8792"/>
                  <a:pt x="9134" y="8791"/>
                  <a:pt x="9108" y="8811"/>
                </a:cubicBezTo>
                <a:cubicBezTo>
                  <a:pt x="9088" y="8827"/>
                  <a:pt x="9075" y="8815"/>
                  <a:pt x="9049" y="8830"/>
                </a:cubicBezTo>
                <a:cubicBezTo>
                  <a:pt x="9037" y="8837"/>
                  <a:pt x="9003" y="8859"/>
                  <a:pt x="8989" y="8870"/>
                </a:cubicBezTo>
                <a:cubicBezTo>
                  <a:pt x="8971" y="8884"/>
                  <a:pt x="8946" y="8904"/>
                  <a:pt x="8930" y="8910"/>
                </a:cubicBezTo>
                <a:cubicBezTo>
                  <a:pt x="8910" y="8910"/>
                  <a:pt x="8903" y="8910"/>
                  <a:pt x="8890" y="8910"/>
                </a:cubicBezTo>
                <a:cubicBezTo>
                  <a:pt x="8890" y="8963"/>
                  <a:pt x="8894" y="9003"/>
                  <a:pt x="8870" y="9029"/>
                </a:cubicBezTo>
                <a:cubicBezTo>
                  <a:pt x="8847" y="9054"/>
                  <a:pt x="8853" y="9037"/>
                  <a:pt x="8811" y="9049"/>
                </a:cubicBezTo>
                <a:cubicBezTo>
                  <a:pt x="8784" y="9057"/>
                  <a:pt x="8756" y="9066"/>
                  <a:pt x="8731" y="9069"/>
                </a:cubicBezTo>
                <a:cubicBezTo>
                  <a:pt x="8693" y="9073"/>
                  <a:pt x="8685" y="9075"/>
                  <a:pt x="8652" y="9088"/>
                </a:cubicBezTo>
                <a:cubicBezTo>
                  <a:pt x="8619" y="9101"/>
                  <a:pt x="8618" y="9096"/>
                  <a:pt x="8592" y="9108"/>
                </a:cubicBezTo>
                <a:cubicBezTo>
                  <a:pt x="8576" y="9116"/>
                  <a:pt x="8558" y="9144"/>
                  <a:pt x="8533" y="9148"/>
                </a:cubicBezTo>
                <a:cubicBezTo>
                  <a:pt x="8484" y="9157"/>
                  <a:pt x="8424" y="9148"/>
                  <a:pt x="8374" y="9148"/>
                </a:cubicBezTo>
                <a:cubicBezTo>
                  <a:pt x="8374" y="9221"/>
                  <a:pt x="8375" y="9302"/>
                  <a:pt x="8394" y="9346"/>
                </a:cubicBezTo>
                <a:cubicBezTo>
                  <a:pt x="8406" y="9375"/>
                  <a:pt x="8394" y="9387"/>
                  <a:pt x="8414" y="9406"/>
                </a:cubicBezTo>
                <a:cubicBezTo>
                  <a:pt x="8431" y="9422"/>
                  <a:pt x="8438" y="9429"/>
                  <a:pt x="8453" y="9446"/>
                </a:cubicBezTo>
                <a:cubicBezTo>
                  <a:pt x="8472" y="9468"/>
                  <a:pt x="8466" y="9494"/>
                  <a:pt x="8493" y="9505"/>
                </a:cubicBezTo>
                <a:cubicBezTo>
                  <a:pt x="8510" y="9512"/>
                  <a:pt x="8535" y="9501"/>
                  <a:pt x="8553" y="9505"/>
                </a:cubicBezTo>
                <a:cubicBezTo>
                  <a:pt x="8570" y="9529"/>
                  <a:pt x="8580" y="9529"/>
                  <a:pt x="8592" y="9545"/>
                </a:cubicBezTo>
                <a:cubicBezTo>
                  <a:pt x="8603" y="9559"/>
                  <a:pt x="8624" y="9574"/>
                  <a:pt x="8632" y="9585"/>
                </a:cubicBezTo>
                <a:cubicBezTo>
                  <a:pt x="8651" y="9612"/>
                  <a:pt x="8634" y="9635"/>
                  <a:pt x="8672" y="9664"/>
                </a:cubicBezTo>
                <a:cubicBezTo>
                  <a:pt x="8699" y="9685"/>
                  <a:pt x="8720" y="9669"/>
                  <a:pt x="8751" y="9684"/>
                </a:cubicBezTo>
                <a:cubicBezTo>
                  <a:pt x="8778" y="9697"/>
                  <a:pt x="8789" y="9697"/>
                  <a:pt x="8811" y="9704"/>
                </a:cubicBezTo>
                <a:cubicBezTo>
                  <a:pt x="8847" y="9716"/>
                  <a:pt x="8854" y="9722"/>
                  <a:pt x="8870" y="9743"/>
                </a:cubicBezTo>
                <a:cubicBezTo>
                  <a:pt x="8887" y="9765"/>
                  <a:pt x="8879" y="9763"/>
                  <a:pt x="8890" y="9803"/>
                </a:cubicBezTo>
                <a:cubicBezTo>
                  <a:pt x="8897" y="9828"/>
                  <a:pt x="8901" y="9856"/>
                  <a:pt x="8910" y="9882"/>
                </a:cubicBezTo>
                <a:cubicBezTo>
                  <a:pt x="8920" y="9910"/>
                  <a:pt x="8927" y="9921"/>
                  <a:pt x="8930" y="9942"/>
                </a:cubicBezTo>
                <a:cubicBezTo>
                  <a:pt x="8936" y="9987"/>
                  <a:pt x="8938" y="9993"/>
                  <a:pt x="8950" y="10021"/>
                </a:cubicBezTo>
                <a:cubicBezTo>
                  <a:pt x="8962" y="10050"/>
                  <a:pt x="8965" y="10045"/>
                  <a:pt x="8989" y="10061"/>
                </a:cubicBezTo>
                <a:cubicBezTo>
                  <a:pt x="9018" y="10081"/>
                  <a:pt x="9044" y="10090"/>
                  <a:pt x="9069" y="10120"/>
                </a:cubicBezTo>
                <a:cubicBezTo>
                  <a:pt x="9084" y="10138"/>
                  <a:pt x="9092" y="10163"/>
                  <a:pt x="9128" y="10180"/>
                </a:cubicBezTo>
                <a:cubicBezTo>
                  <a:pt x="9141" y="10186"/>
                  <a:pt x="9218" y="10199"/>
                  <a:pt x="9227" y="10200"/>
                </a:cubicBezTo>
                <a:cubicBezTo>
                  <a:pt x="9273" y="10207"/>
                  <a:pt x="9332" y="10182"/>
                  <a:pt x="9346" y="10180"/>
                </a:cubicBezTo>
                <a:cubicBezTo>
                  <a:pt x="9394" y="10174"/>
                  <a:pt x="9430" y="10196"/>
                  <a:pt x="9465" y="10200"/>
                </a:cubicBezTo>
                <a:cubicBezTo>
                  <a:pt x="9505" y="10204"/>
                  <a:pt x="9525" y="10216"/>
                  <a:pt x="9565" y="10220"/>
                </a:cubicBezTo>
                <a:cubicBezTo>
                  <a:pt x="9613" y="10225"/>
                  <a:pt x="9658" y="10234"/>
                  <a:pt x="9704" y="10239"/>
                </a:cubicBezTo>
                <a:cubicBezTo>
                  <a:pt x="9743" y="10243"/>
                  <a:pt x="9794" y="10221"/>
                  <a:pt x="9803" y="10220"/>
                </a:cubicBezTo>
                <a:cubicBezTo>
                  <a:pt x="9845" y="10215"/>
                  <a:pt x="9928" y="10202"/>
                  <a:pt x="9942" y="10200"/>
                </a:cubicBezTo>
                <a:cubicBezTo>
                  <a:pt x="9961" y="10198"/>
                  <a:pt x="9982" y="10202"/>
                  <a:pt x="10001" y="10200"/>
                </a:cubicBezTo>
                <a:cubicBezTo>
                  <a:pt x="10013" y="10176"/>
                  <a:pt x="10033" y="10185"/>
                  <a:pt x="10041" y="10160"/>
                </a:cubicBezTo>
                <a:cubicBezTo>
                  <a:pt x="10065" y="10083"/>
                  <a:pt x="10042" y="9959"/>
                  <a:pt x="10061" y="9902"/>
                </a:cubicBezTo>
                <a:cubicBezTo>
                  <a:pt x="10070" y="9874"/>
                  <a:pt x="10091" y="9850"/>
                  <a:pt x="10100" y="9823"/>
                </a:cubicBezTo>
                <a:cubicBezTo>
                  <a:pt x="10100" y="9803"/>
                  <a:pt x="10100" y="9796"/>
                  <a:pt x="10100" y="9783"/>
                </a:cubicBezTo>
                <a:cubicBezTo>
                  <a:pt x="10140" y="9776"/>
                  <a:pt x="10145" y="9786"/>
                  <a:pt x="10180" y="9763"/>
                </a:cubicBezTo>
                <a:cubicBezTo>
                  <a:pt x="10200" y="9750"/>
                  <a:pt x="10208" y="9734"/>
                  <a:pt x="10239" y="9723"/>
                </a:cubicBezTo>
                <a:cubicBezTo>
                  <a:pt x="10259" y="9723"/>
                  <a:pt x="10266" y="9723"/>
                  <a:pt x="10279" y="9723"/>
                </a:cubicBezTo>
                <a:cubicBezTo>
                  <a:pt x="10279" y="9630"/>
                  <a:pt x="10285" y="9508"/>
                  <a:pt x="10259" y="9446"/>
                </a:cubicBezTo>
                <a:cubicBezTo>
                  <a:pt x="10248" y="9420"/>
                  <a:pt x="10241" y="9418"/>
                  <a:pt x="10220" y="9386"/>
                </a:cubicBezTo>
                <a:cubicBezTo>
                  <a:pt x="10207" y="9366"/>
                  <a:pt x="10203" y="9369"/>
                  <a:pt x="10200" y="9327"/>
                </a:cubicBezTo>
                <a:cubicBezTo>
                  <a:pt x="10196" y="9279"/>
                  <a:pt x="10198" y="9246"/>
                  <a:pt x="10220" y="9208"/>
                </a:cubicBezTo>
                <a:cubicBezTo>
                  <a:pt x="10248" y="9160"/>
                  <a:pt x="10259" y="9174"/>
                  <a:pt x="10279" y="9128"/>
                </a:cubicBezTo>
                <a:cubicBezTo>
                  <a:pt x="10290" y="9103"/>
                  <a:pt x="10313" y="9080"/>
                  <a:pt x="10319" y="9069"/>
                </a:cubicBezTo>
                <a:cubicBezTo>
                  <a:pt x="10332" y="9047"/>
                  <a:pt x="10332" y="9028"/>
                  <a:pt x="10339" y="9009"/>
                </a:cubicBezTo>
                <a:cubicBezTo>
                  <a:pt x="10347" y="8987"/>
                  <a:pt x="10373" y="8960"/>
                  <a:pt x="10358" y="8930"/>
                </a:cubicBezTo>
                <a:cubicBezTo>
                  <a:pt x="10352" y="8918"/>
                  <a:pt x="10329" y="8909"/>
                  <a:pt x="10319" y="8890"/>
                </a:cubicBezTo>
                <a:cubicBezTo>
                  <a:pt x="10315" y="8882"/>
                  <a:pt x="10306" y="8836"/>
                  <a:pt x="10299" y="8830"/>
                </a:cubicBezTo>
                <a:cubicBezTo>
                  <a:pt x="10283" y="8816"/>
                  <a:pt x="10273" y="8804"/>
                  <a:pt x="10259" y="8791"/>
                </a:cubicBezTo>
                <a:cubicBezTo>
                  <a:pt x="10240" y="8773"/>
                  <a:pt x="10226" y="8786"/>
                  <a:pt x="10200" y="8771"/>
                </a:cubicBezTo>
                <a:cubicBezTo>
                  <a:pt x="10174" y="8756"/>
                  <a:pt x="10160" y="8769"/>
                  <a:pt x="10140" y="8751"/>
                </a:cubicBezTo>
                <a:cubicBezTo>
                  <a:pt x="10115" y="8727"/>
                  <a:pt x="10127" y="8719"/>
                  <a:pt x="10081" y="8711"/>
                </a:cubicBezTo>
                <a:cubicBezTo>
                  <a:pt x="10022" y="8701"/>
                  <a:pt x="9958" y="8707"/>
                  <a:pt x="9922" y="8692"/>
                </a:cubicBezTo>
                <a:cubicBezTo>
                  <a:pt x="9909" y="8687"/>
                  <a:pt x="9876" y="8683"/>
                  <a:pt x="9862" y="8672"/>
                </a:cubicBezTo>
                <a:cubicBezTo>
                  <a:pt x="9829" y="8646"/>
                  <a:pt x="9841" y="8636"/>
                  <a:pt x="9803" y="8612"/>
                </a:cubicBezTo>
                <a:cubicBezTo>
                  <a:pt x="9785" y="8601"/>
                  <a:pt x="9769" y="8579"/>
                  <a:pt x="9743" y="8572"/>
                </a:cubicBezTo>
                <a:cubicBezTo>
                  <a:pt x="9733" y="8569"/>
                  <a:pt x="9707" y="8553"/>
                  <a:pt x="9684" y="8572"/>
                </a:cubicBezTo>
                <a:cubicBezTo>
                  <a:pt x="9674" y="8580"/>
                  <a:pt x="9672" y="8626"/>
                  <a:pt x="9664" y="8632"/>
                </a:cubicBezTo>
                <a:cubicBezTo>
                  <a:pt x="9657" y="8632"/>
                  <a:pt x="9651" y="8632"/>
                  <a:pt x="9644" y="8632"/>
                </a:cubicBezTo>
                <a:cubicBezTo>
                  <a:pt x="9644" y="8606"/>
                  <a:pt x="9644" y="8579"/>
                  <a:pt x="9644" y="8553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History fac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1000 AD- The Shona people began their rule and built a city called Zimbab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s is important because this is where Zimbabwe ca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e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y fac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79- Zimbabwe Declared it’s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is important because Zimbabwe now has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18208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b2ec"/>
                </a:solidFill>
                <a:latin typeface="Arial"/>
              </a:rPr>
              <a:t>History Fac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6b2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b2ec"/>
                </a:solidFill>
                <a:latin typeface="Arial"/>
              </a:rPr>
              <a:t>1980- Great Britain recognized the country’s independence and Rhodesia’s name was changed to Zimbab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b2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b2ec"/>
                </a:solidFill>
                <a:latin typeface="Arial"/>
              </a:rPr>
              <a:t>This is important because it made Zimbabwe Big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4c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Zimbabwe’s Political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Zimbabwe has a Parliamentary Democracy, which means that their political system is based on the idea that parliament is supreme or sovere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Parliamentary Democracy is one in which the people chose representatives at regular el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ir President is Mr. Robert Gabriel Mug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96080" y="4572000"/>
            <a:ext cx="12956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Arial"/>
              </a:rPr>
              <a:t>Major Imports and Expor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Exports- Cotton, Tobacco, Gold, Ferroalloys, and Cl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Imports- Machinery and Transportation equipment, Manufacturing goods, Chemicals and Fu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4952880"/>
            <a:ext cx="1689120" cy="177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81080" y="4849920"/>
            <a:ext cx="2000520" cy="200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2590920" cy="167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477120" y="373392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imbabwe's religion is Christianit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1854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3:10:08Z</dcterms:created>
  <dc:creator>micaylawatts</dc:creator>
  <dc:description/>
  <dc:language>en-US</dc:language>
  <cp:lastModifiedBy>micaylawatts</cp:lastModifiedBy>
  <dcterms:modified xsi:type="dcterms:W3CDTF">2008-11-12T20:17:25Z</dcterms:modified>
  <cp:revision>4</cp:revision>
  <dc:subject/>
  <dc:title>Zimbabwe</dc:title>
</cp:coreProperties>
</file>